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C32B3-590F-4661-91E5-42D985CB980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lesson should take about 1 hr: speaking 1 – 10 mins; grammar – 15 mins; reading – 15 mins; speaking 2 – 20 m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F6798-2E68-4210-A05E-26704AB3E80E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EY: all true except 2 (voting is not mandatory in German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1038A-D717-42E7-A4BA-13C9BDADB9EA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eck understanding of structures with concept questions and drill where necessary. Then allow learners to discuss and note down errors for post task corr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DAC03-F50F-465F-9BF4-D18523BE9193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ou can print out the article, or get learners to read it online. If reading a paper copy, learners could underline or highlight all the points they want to reme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0FE6B-79FB-48DB-A327-8BF659829DC1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ou can leave the compulsory/optional language on the board/wall for learners to refer to. If time, re-pair learners so they can repeat the argument with different partners. Monitor for errors and note them down for post task error corr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t learners tell each other at the end which arguments they really do agree with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84DFA-40E1-4043-8D63-BA86F9B5701E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99EA-C785-499D-839F-21D916D19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A87B-5FC1-4B40-86FB-F34FEF722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89C2-F949-41FD-B86D-C1F4C97C0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2EBB-E4AD-47F5-A9FF-64807FAE5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3050-B748-4D7E-A5B9-F6AAEE244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24A3-E9E8-4BF7-803B-B71CAEEEF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076A-73B6-4C4E-9F69-26491B17E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9E7A-04F2-4619-AB0C-222DABAB7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A581-7DDA-4BAD-A2B1-AF2054363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4B02-AF56-41B8-8B84-3B17064FD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A406-7C75-4169-9537-D3150A6C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05DE-60E7-43EE-9628-CE839D01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6A83A-1F5D-499E-A52C-5369C9C6B77C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Is_it_a_good_idea_to_say_that_everyone_must_vote%3F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newint.org/sections/argument/2015/03/18/uri-220.jpg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6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0" spc="-1" strike="noStrike">
                <a:solidFill>
                  <a:srgbClr val="ffffff"/>
                </a:solidFill>
                <a:latin typeface="Calibri"/>
              </a:rPr>
              <a:t>Voting</a:t>
            </a:r>
            <a:endParaRPr b="0" lang="en-US" sz="1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24000" y="4437000"/>
            <a:ext cx="489564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Calibri"/>
              </a:rPr>
              <a:t>NEW INTERNATIONALIST  EASIER ENGLISH INTERMEDIATE READY LESSON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916360" y="476280"/>
            <a:ext cx="6016680" cy="1511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34920" y="3933720"/>
            <a:ext cx="3795840" cy="27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This lesson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alibri"/>
              </a:rPr>
              <a:t>Grammar – </a:t>
            </a:r>
            <a:r>
              <a:rPr b="1" lang="en-GB" sz="4400" spc="-1" strike="noStrike">
                <a:solidFill>
                  <a:srgbClr val="92d050"/>
                </a:solidFill>
                <a:latin typeface="Calibri"/>
              </a:rPr>
              <a:t>how to say things are optional and compulsory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alibri"/>
              </a:rPr>
              <a:t>Speaking – </a:t>
            </a:r>
            <a:r>
              <a:rPr b="1" lang="en-GB" sz="4400" spc="-1" strike="noStrike">
                <a:solidFill>
                  <a:srgbClr val="ffc000"/>
                </a:solidFill>
                <a:latin typeface="Calibri"/>
              </a:rPr>
              <a:t>about voting in different countries, and if voting should be compulsory or n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alibri"/>
              </a:rPr>
              <a:t>Reading – </a:t>
            </a:r>
            <a:r>
              <a:rPr b="1" lang="en-GB" sz="4400" spc="-1" strike="noStrike">
                <a:solidFill>
                  <a:srgbClr val="ffff00"/>
                </a:solidFill>
                <a:latin typeface="Calibri"/>
              </a:rPr>
              <a:t>an argumen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True or false? - general elections?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50920" y="1125000"/>
            <a:ext cx="86421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In the UK, voting is optional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Everyone has to vote in Germany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You only vote if you want to in France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Voting is compulsory in Brazil if you’re between 18 and 70, but you can vote if you like if you’re 16, 17 or over 70 (if you are literate)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You are fined if you don’t vote in some countries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You must vote in Australia because it’s mandatory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You don’t have a choice whether to vote or not in Argentina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What do you notice about the underlined language?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50920" y="126828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In the UK, voting </a:t>
            </a:r>
            <a:r>
              <a:rPr b="1" lang="en-GB" sz="3000" spc="-1" strike="noStrike" u="sng">
                <a:solidFill>
                  <a:srgbClr val="ffffff"/>
                </a:solidFill>
                <a:uFillTx/>
                <a:latin typeface="Calibri"/>
              </a:rPr>
              <a:t>is optional</a:t>
            </a: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Everyone </a:t>
            </a:r>
            <a:r>
              <a:rPr b="1" lang="en-GB" sz="3000" spc="-1" strike="noStrike" u="sng">
                <a:solidFill>
                  <a:srgbClr val="ffffff"/>
                </a:solidFill>
                <a:uFillTx/>
                <a:latin typeface="Calibri"/>
              </a:rPr>
              <a:t>has to </a:t>
            </a: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vote in Germany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You </a:t>
            </a:r>
            <a:r>
              <a:rPr b="1" lang="en-GB" sz="3000" spc="-1" strike="noStrike" u="sng">
                <a:solidFill>
                  <a:srgbClr val="ffffff"/>
                </a:solidFill>
                <a:uFillTx/>
                <a:latin typeface="Calibri"/>
              </a:rPr>
              <a:t>only vote if you want to </a:t>
            </a: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in France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Voting </a:t>
            </a:r>
            <a:r>
              <a:rPr b="1" lang="en-GB" sz="3000" spc="-1" strike="noStrike" u="sng">
                <a:solidFill>
                  <a:srgbClr val="ffffff"/>
                </a:solidFill>
                <a:uFillTx/>
                <a:latin typeface="Calibri"/>
              </a:rPr>
              <a:t>is compulsory </a:t>
            </a: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in Brazil if you’re between 18 and 70, but </a:t>
            </a:r>
            <a:r>
              <a:rPr b="1" lang="en-GB" sz="3000" spc="-1" strike="noStrike" u="sng">
                <a:solidFill>
                  <a:srgbClr val="ffffff"/>
                </a:solidFill>
                <a:uFillTx/>
                <a:latin typeface="Calibri"/>
              </a:rPr>
              <a:t>you can vote if you like </a:t>
            </a: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if you’re 16, 17 or over 70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You </a:t>
            </a:r>
            <a:r>
              <a:rPr b="1" lang="en-GB" sz="3000" spc="-1" strike="noStrike" u="sng">
                <a:solidFill>
                  <a:srgbClr val="ffffff"/>
                </a:solidFill>
                <a:uFillTx/>
                <a:latin typeface="Calibri"/>
              </a:rPr>
              <a:t>are fined if you don’t </a:t>
            </a: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vote in some countries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You </a:t>
            </a:r>
            <a:r>
              <a:rPr b="1" lang="en-GB" sz="3000" spc="-1" strike="noStrike" u="sng">
                <a:solidFill>
                  <a:srgbClr val="ffffff"/>
                </a:solidFill>
                <a:uFillTx/>
                <a:latin typeface="Calibri"/>
              </a:rPr>
              <a:t>must</a:t>
            </a: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 vote in Australia because </a:t>
            </a:r>
            <a:r>
              <a:rPr b="1" lang="en-GB" sz="3000" spc="-1" strike="noStrike" u="sng">
                <a:solidFill>
                  <a:srgbClr val="ffffff"/>
                </a:solidFill>
                <a:uFillTx/>
                <a:latin typeface="Calibri"/>
              </a:rPr>
              <a:t>it’s mandatory</a:t>
            </a: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You </a:t>
            </a:r>
            <a:r>
              <a:rPr b="1" lang="en-GB" sz="3000" spc="-1" strike="noStrike" u="sng">
                <a:solidFill>
                  <a:srgbClr val="ffffff"/>
                </a:solidFill>
                <a:uFillTx/>
                <a:latin typeface="Calibri"/>
              </a:rPr>
              <a:t>don’t have a choice whether to vote or not </a:t>
            </a: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in Argentina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You </a:t>
            </a:r>
            <a:r>
              <a:rPr b="1" lang="en-GB" sz="3000" spc="-1" strike="noStrike" u="sng">
                <a:solidFill>
                  <a:srgbClr val="ffffff"/>
                </a:solidFill>
                <a:uFillTx/>
                <a:latin typeface="Calibri"/>
              </a:rPr>
              <a:t>don’t have to </a:t>
            </a: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vote in Spain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alibri"/>
              </a:rPr>
              <a:t>Discuss your country and other countries – which do you think is best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50560" y="1600200"/>
            <a:ext cx="42447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Voting 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Calibri"/>
              </a:rPr>
              <a:t>is compulsor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You 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Calibri"/>
              </a:rPr>
              <a:t>have to </a:t>
            </a: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vot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Everyone 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Calibri"/>
              </a:rPr>
              <a:t>has to </a:t>
            </a: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vot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You 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Calibri"/>
              </a:rPr>
              <a:t>are fined if you don’t </a:t>
            </a: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vot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You 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Calibri"/>
              </a:rPr>
              <a:t>must</a:t>
            </a: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 vot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Voting 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Calibri"/>
              </a:rPr>
              <a:t>is mandator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You 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Calibri"/>
              </a:rPr>
              <a:t>don’t have a choice whether to vote or no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50"/>
                </a:solidFill>
                <a:latin typeface="Calibri"/>
              </a:rPr>
              <a:t>Voting </a:t>
            </a:r>
            <a:r>
              <a:rPr b="1" lang="en-GB" sz="3200" spc="-1" strike="noStrike" u="sng">
                <a:solidFill>
                  <a:srgbClr val="00b050"/>
                </a:solidFill>
                <a:uFillTx/>
                <a:latin typeface="Calibri"/>
              </a:rPr>
              <a:t>is optiona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50"/>
                </a:solidFill>
                <a:latin typeface="Calibri"/>
              </a:rPr>
              <a:t>You </a:t>
            </a:r>
            <a:r>
              <a:rPr b="1" lang="en-GB" sz="3200" spc="-1" strike="noStrike" u="sng">
                <a:solidFill>
                  <a:srgbClr val="00b050"/>
                </a:solidFill>
                <a:uFillTx/>
                <a:latin typeface="Calibri"/>
              </a:rPr>
              <a:t>only vote if you want t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50"/>
                </a:solidFill>
                <a:latin typeface="Calibri"/>
              </a:rPr>
              <a:t>You </a:t>
            </a:r>
            <a:r>
              <a:rPr b="1" lang="en-GB" sz="3200" spc="-1" strike="noStrike" u="sng">
                <a:solidFill>
                  <a:srgbClr val="00b050"/>
                </a:solidFill>
                <a:uFillTx/>
                <a:latin typeface="Calibri"/>
              </a:rPr>
              <a:t>can vote if you lik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50"/>
                </a:solidFill>
                <a:latin typeface="Calibri"/>
              </a:rPr>
              <a:t>You </a:t>
            </a:r>
            <a:r>
              <a:rPr b="1" lang="en-GB" sz="3200" spc="-1" strike="noStrike" u="sng">
                <a:solidFill>
                  <a:srgbClr val="00b050"/>
                </a:solidFill>
                <a:uFillTx/>
                <a:latin typeface="Calibri"/>
              </a:rPr>
              <a:t>don’t have to vot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210440" cy="488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Read this article: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Calibri"/>
              </a:rPr>
              <a:t>“Is it a good idea to make everyone vote?”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Group </a:t>
            </a:r>
            <a:r>
              <a:rPr b="1" lang="en-GB" sz="44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 – find all the </a:t>
            </a:r>
            <a:r>
              <a:rPr b="1" lang="en-GB" sz="4400" spc="-1" strike="noStrike">
                <a:solidFill>
                  <a:srgbClr val="ff0000"/>
                </a:solidFill>
                <a:latin typeface="Calibri"/>
              </a:rPr>
              <a:t>YES</a:t>
            </a: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arguments                        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Group </a:t>
            </a:r>
            <a:r>
              <a:rPr b="0" lang="en-GB" sz="4400" spc="-1" strike="noStrike">
                <a:solidFill>
                  <a:srgbClr val="00b0f0"/>
                </a:solidFill>
                <a:latin typeface="Calibri"/>
              </a:rPr>
              <a:t>B</a:t>
            </a: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 – find all the </a:t>
            </a:r>
            <a:r>
              <a:rPr b="1" lang="en-GB" sz="4400" spc="-1" strike="noStrike">
                <a:solidFill>
                  <a:srgbClr val="00b0f0"/>
                </a:solidFill>
                <a:latin typeface="Calibri"/>
              </a:rPr>
              <a:t>NO</a:t>
            </a: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argumen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522900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49100"/>
                </a:solidFill>
                <a:uFillTx/>
                <a:latin typeface="Calibri"/>
                <a:hlinkClick r:id="rId1"/>
              </a:rPr>
              <a:t>http://eewiki.newint.org/index.php/Is_it_a_good_idea_to_say_that_everyone_must_vote%3F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7308720" y="549360"/>
            <a:ext cx="1636920" cy="2232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3"/>
          <a:stretch/>
        </p:blipFill>
        <p:spPr>
          <a:xfrm>
            <a:off x="7277040" y="3141720"/>
            <a:ext cx="162396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alibri"/>
              </a:rPr>
              <a:t>Now divide into pairs – A&amp;B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24000" y="1413000"/>
            <a:ext cx="417168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2d050"/>
                </a:solidFill>
                <a:latin typeface="Calibri"/>
              </a:rPr>
              <a:t>A –     you think voting should be compulsory – try to persuade B with all the reasons you found in the tex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48320" y="1413000"/>
            <a:ext cx="41716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000"/>
                </a:solidFill>
                <a:latin typeface="Calibri"/>
              </a:rPr>
              <a:t>B – you think voting should be optional – try to persuade A with all the arguments you found in the tex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alibri"/>
              </a:rPr>
              <a:t>Homework: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107720"/>
            <a:ext cx="8229600" cy="54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alibri"/>
              </a:rPr>
              <a:t>Choice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Calibri"/>
              </a:rPr>
              <a:t>Reading</a:t>
            </a:r>
            <a:r>
              <a:rPr b="0" lang="en-GB" sz="4000" spc="-1" strike="noStrike">
                <a:solidFill>
                  <a:srgbClr val="ffffff"/>
                </a:solidFill>
                <a:latin typeface="Calibri"/>
              </a:rPr>
              <a:t>: read the original argument: </a:t>
            </a:r>
            <a:r>
              <a:rPr b="0" lang="en-GB" sz="4000" spc="-1" strike="noStrike" u="sng">
                <a:solidFill>
                  <a:srgbClr val="f49100"/>
                </a:solidFill>
                <a:uFillTx/>
                <a:latin typeface="Calibri"/>
                <a:hlinkClick r:id="rId1"/>
              </a:rPr>
              <a:t>http://www.newint.org/sections/argument/2015/03/18/uri-220.jpg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alibri"/>
              </a:rPr>
              <a:t>or (and?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Calibri"/>
              </a:rPr>
              <a:t>Writing</a:t>
            </a:r>
            <a:r>
              <a:rPr b="0" lang="en-GB" sz="4000" spc="-1" strike="noStrike">
                <a:solidFill>
                  <a:srgbClr val="ffffff"/>
                </a:solidFill>
                <a:latin typeface="Calibri"/>
              </a:rPr>
              <a:t>: write an article for a magazine about what you really think: “Should voting be compulsory?”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6227640" y="115920"/>
            <a:ext cx="271332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3T15:10:39Z</dcterms:created>
  <dc:creator>Linda Ruas</dc:creator>
  <dc:description/>
  <dc:language>en-US</dc:language>
  <cp:lastModifiedBy>Linda Ruas</cp:lastModifiedBy>
  <dcterms:modified xsi:type="dcterms:W3CDTF">2015-04-23T16:09:06Z</dcterms:modified>
  <cp:revision>7</cp:revision>
  <dc:subject/>
  <dc:title>Voting</dc:title>
</cp:coreProperties>
</file>